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5A1674F-64DA-409A-9A85-1DEAC1C83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6B5C084-A156-4C7D-A1C2-833A9A42D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5D5C212-EED4-4441-A593-7D6D0F569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D79E436-CFB4-4FAD-9976-2F34E26A5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DE5D8-AE51-44A9-A529-0F54C64CED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03707-9A49-4670-A777-9AE3D278B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87B41-2B19-4A8E-9A61-16AEA0BBC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40CD3-096B-4CE9-AD71-302F8BC51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59895-CEC6-4B59-8930-46D0B5C54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00421-6F48-4400-B493-030D70265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BCF88-6B09-4768-A9AF-953F2D08C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9A37C8B-C39E-4D2F-B4D1-9B89A12C4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4ED31-C1F9-49D5-95EC-C9CC45926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6C9EE-FF05-449B-9FCF-55954B5F9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91615-0BB5-4864-B5AC-AC607FFA5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1C6F8-1418-4C1B-B111-C7F32DB329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B07379-2954-42DF-AB07-FB67BBAE87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BEA35E4-2B67-4C02-A770-7A0F611B2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E983EC1-0E9D-4794-894A-5E6EC66C7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88DA688-38C9-4B62-A4E5-7FB7C570C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E686342-901D-4202-B22B-78B692EFA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F08AEC-0870-4AF0-BC8E-AC9C66BE2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D406A3-7288-420B-8E86-C4ACE5E76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2EE1F93-CF1F-477A-B3DD-39511D99C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A29D7-D737-4FB0-A445-B043360094F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B82E-FF7E-4DE0-95BA-5A9FB475ED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Activate Prior Knowledge/Set Purpose </a:t>
            </a:r>
            <a:br>
              <a:rPr sz="2800"/>
            </a:br>
            <a:r>
              <a:rPr b="1" lang="en-US" sz="2800" spc="-1" strike="noStrike">
                <a:solidFill>
                  <a:srgbClr val="e5e5ff"/>
                </a:solidFill>
                <a:latin typeface="Garamond"/>
              </a:rPr>
              <a:t>Readying pages 62 -63</a:t>
            </a:r>
            <a:endParaRPr b="1" lang="en-US" sz="2800" spc="-1" strike="noStrike">
              <a:solidFill>
                <a:srgbClr val="e5e5ff"/>
              </a:solidFill>
              <a:latin typeface="Garamond"/>
            </a:endParaRPr>
          </a:p>
        </p:txBody>
      </p:sp>
      <p:sp>
        <p:nvSpPr>
          <p:cNvPr id="101" name="PlaceHolder 2"/>
          <p:cNvSpPr>
            <a:spLocks noGrp="1"/>
          </p:cNvSpPr>
          <p:nvPr>
            <p:ph type="subTitle"/>
          </p:nvPr>
        </p:nvSpPr>
        <p:spPr>
          <a:xfrm>
            <a:off x="1371600" y="1752120"/>
            <a:ext cx="6400800" cy="3886200"/>
          </a:xfrm>
          <a:prstGeom prst="rect">
            <a:avLst/>
          </a:prstGeom>
          <a:noFill/>
          <a:ln w="0">
            <a:noFill/>
          </a:ln>
        </p:spPr>
        <p:txBody>
          <a:bodyPr lIns="90000" rIns="90000" tIns="46800" bIns="46800" anchor="t">
            <a:noAutofit/>
          </a:bodyPr>
          <a:p>
            <a:pP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nfield has seen Mr. Hyde beat a child in the street and has told Mr. Utterson about the incident.  Enfield has also told Utterson that Mr. Hyde wrote a check using a well-known local doctor’s name.</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hat have you discovered about Dr. Jekyll’s character and his relationship to Mr. Hyde?</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hen I finish reading pages 62 – 63 be prepared to tell what Dr. Jekyll’s will states should happen if he disappears or dies.</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ow did Utterson feel about the will during the interlude between writing it and rereading it?</a:t>
            </a:r>
            <a:endParaRPr b="0" lang="en-US" sz="2000" spc="-1" strike="noStrike">
              <a:solidFill>
                <a:srgbClr val="ffffff"/>
              </a:solidFill>
              <a:latin typeface="Garamond"/>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rategy Note</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nomatopoeia</a:t>
            </a:r>
            <a:r>
              <a:rPr b="0" lang="en-US" sz="2800" spc="-1" strike="noStrike">
                <a:solidFill>
                  <a:srgbClr val="ffffff"/>
                </a:solidFill>
                <a:latin typeface="Garamond"/>
              </a:rPr>
              <a:t> – occurs when a word imitates the sound it represents.  The text say that a hissing sound seemed to leak from Hyde’s mouth.  </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 does that help you understand the way Hyde’s voice sound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eshadowing</a:t>
            </a:r>
            <a:r>
              <a:rPr b="0" lang="en-US" sz="2800" spc="-1" strike="noStrike">
                <a:solidFill>
                  <a:srgbClr val="ffffff"/>
                </a:solidFill>
                <a:latin typeface="Garamond"/>
              </a:rPr>
              <a:t> – At the end of this passage, Utterson’s heart is pounding with dread.  This detail hints at the idea that something awful involving Mr. Hyde and Dr. Jekyll will happen and helps me predict what event might take plac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arget Word</a:t>
            </a:r>
            <a:br>
              <a:rPr sz="4000"/>
            </a:br>
            <a:r>
              <a:rPr b="1" lang="en-US" sz="4000" spc="-1" strike="noStrike">
                <a:solidFill>
                  <a:srgbClr val="e5e5ff"/>
                </a:solidFill>
                <a:latin typeface="Garamond"/>
              </a:rPr>
              <a:t>Perpetual</a:t>
            </a:r>
            <a:endParaRPr b="1" lang="en-US" sz="40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petual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pet-u-al (adjective)</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aning constant; without stopping</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 Utterson had made a will for his friend Dr. Jekyll; however, it had been a perpetual source of discomfort.</a:t>
            </a:r>
            <a:endParaRPr b="0" lang="en-US" sz="32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800" spc="-1" strike="noStrike">
                <a:solidFill>
                  <a:srgbClr val="ffffff"/>
                </a:solidFill>
                <a:latin typeface="Garamond"/>
              </a:rPr>
              <a:t>What would you look like if you had a perpetual frown?</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activities bring you perpetual enjoyment?</a:t>
            </a:r>
            <a:endParaRPr b="0" lang="en-US" sz="2800" spc="-1" strike="noStrike">
              <a:solidFill>
                <a:srgbClr val="ffffff"/>
              </a:solidFill>
              <a:latin typeface="Garamond"/>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udent Objectives</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actice analyzing the setting, characters, plot, and theme of a short story.</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 test marking to identify story element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actice tracking story elements using a graphic organiz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kill Tracker: Learners Can Recognize Setting, Character, Plot and Them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ink-Pair-Share</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 think Utterson’s worst fears are _________.</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behavior might make you become fearful for a friend?</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tterson has learned that Mr. Hyde ______.</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does the will say should happen if Dr. Jekyll disappears or dies?</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you own words, summarize what Utterson has learned about Mr. Hyd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to Questions</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terson’s worst fears are that Dr. Jekyll will be overcome by Mr. Hyde and that Mr. Hyde will harm more people.</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might worry that my friends are not ethical and moral.</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terson has learned that Mr. Hyde has threatened Dr. Jekyll.</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r. Hyde should receive all of Dr. Jekyll’s money if Dr. Jekyll disappears or dies.</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e the quotation on the next slide.</a:t>
            </a: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ummarize the Meaning of this Quotation</a:t>
            </a:r>
            <a:endParaRPr b="1" lang="en-US" sz="40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Dr. Jekyll was a scientist, a healer; few Londoners were more respected than he.  Why would this good man leave everything to a child-beater, a beast who, as Enfield described him, embodied pure evil?  How had the lives of two such different people come to intersect?  Hyde must have threatened Jekyll somehow; how else could the doctor’s will be explain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etting, Character, Plot, and Theme</a:t>
            </a:r>
            <a:endParaRPr b="1" lang="en-US" sz="40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What is the most important detail about the door that Mr. Hyde enter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Why is this detail important?</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Find two details about Mr. Hyde’s appearanc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Mr. Hyde says something that upsets Utterson greatly. What?</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Explain what upsets Utterson so much.</a:t>
            </a: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s to Questio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paragraphs 5 – 6, Utterson finds the door that Enfield described to him, and he realizes the door Hyde uses is the rear entrance to Dr. Jekyll’s house.</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detail is important because it shows that Mr. Jekyll has a hidden access to Dr. Jekyll’s house.</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r. Hyde’s rumpled appearance shows that he does not care about his looks, and when Utterson sees Mr. Hyde evil face he shutters as Mr. Hyde tells him that they would be doing business in the future.</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terson is upset because he thinks Hyde may be planning to kill Jekyll, and he does not feel comfortable about his friend Jekyll’s association with Hyd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me</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theme of this story is, “Everyone is capable of both good and bad.”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5T19:43:10Z</dcterms:created>
  <dc:creator>Barbara Vogt</dc:creator>
  <dc:description/>
  <dc:language>en-US</dc:language>
  <cp:lastModifiedBy>Barbara Vogt</cp:lastModifiedBy>
  <dcterms:modified xsi:type="dcterms:W3CDTF">2012-02-04T19:24:12Z</dcterms:modified>
  <cp:revision>3</cp:revision>
  <dc:subject/>
  <dc:title>Activate Prior Knowledge/Set Purpose  Readying pages 62 -63</dc:title>
</cp:coreProperties>
</file>